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24656"/>
        <c:axId val="46144512"/>
      </c:barChart>
      <c:catAx>
        <c:axId val="11824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44512"/>
        <c:crosses val="autoZero"/>
        <c:auto val="1"/>
        <c:lblAlgn val="ctr"/>
        <c:lblOffset val="100"/>
        <c:noMultiLvlLbl val="0"/>
      </c:catAx>
      <c:valAx>
        <c:axId val="46144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24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725-1D7E-45CB-AA15-CE13B9F2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4D7-B1F9-462E-A43D-FF04C755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67F-B95F-4C29-97E5-4EE9A53D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FC2-7A18-45D4-8457-C1577AD3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FAB-3A80-4481-8871-02E9FBAA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314-CCC2-4CB8-B640-AA4847AB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AE9-B819-4EE2-92C3-A4ED6479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66F-A267-48F5-86EC-04346288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0F5-B5D8-4720-AD61-1886B2F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AD0-0261-41A2-BADE-C8FE8CB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05D-D9A5-4364-BEAB-00CDFECD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35E-2457-4023-9C88-68D92C80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74E57-9E38-4EBE-9AD2-5A2B6F525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