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52501"/>
        <c:axId val="24060844"/>
      </c:barChart>
      <c:catAx>
        <c:axId val="26052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60844"/>
        <c:crosses val="autoZero"/>
        <c:auto val="1"/>
        <c:lblAlgn val="ctr"/>
        <c:lblOffset val="100"/>
        <c:noMultiLvlLbl val="0"/>
      </c:catAx>
      <c:valAx>
        <c:axId val="24060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52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196-35C3-4BF1-8383-30C2A677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06E-0614-4792-9A59-48D6290F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E33-2770-4E52-B408-944ED39A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C72-060B-416A-B18E-84A5B141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A1E-23EE-4D14-A32B-633EC3D7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196-DBE3-487F-A312-D8102CA8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C30-668F-441B-8332-9C8625B1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6E4-9DB6-4A30-94D5-620BA3FF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7B5F-983D-42E1-9BB7-843C046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D17-ADDB-4716-9D4D-7FAD6C5B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294-5C76-427A-B3A3-51F8F3A1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2F6-238E-4465-AA67-EE9108A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03686-D533-4D66-A257-52EE814A15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