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34464"/>
        <c:axId val="74068609"/>
      </c:barChart>
      <c:catAx>
        <c:axId val="74034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68609"/>
        <c:crosses val="autoZero"/>
        <c:auto val="1"/>
        <c:lblAlgn val="ctr"/>
        <c:lblOffset val="100"/>
        <c:noMultiLvlLbl val="0"/>
      </c:catAx>
      <c:valAx>
        <c:axId val="74068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34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146-8A38-4F0A-A101-C3010588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E99-F940-47ED-8449-6E1542D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5B5-2B84-4516-9B4C-47D8BDFD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934-5E69-4824-BE47-754AE5FA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A2C-A17F-43CC-9928-D05C9B7E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01E-514F-40CD-88EA-06171B78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7A3-0791-4DB9-9321-1635FD13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3D2-FCC2-4AE3-B5A6-99CF008E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35E-99EB-4B0B-BB3F-F0B1084B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980-A57E-45C4-B7D3-938BB5A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72C-D182-41C6-B82A-6FC01EFF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922-16C7-4122-BB76-E9866F18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719FE-AE7E-47F6-B97D-CC307ED897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