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916256"/>
        <c:axId val="57758492"/>
      </c:barChart>
      <c:catAx>
        <c:axId val="999162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758492"/>
        <c:crosses val="autoZero"/>
        <c:auto val="1"/>
        <c:lblAlgn val="ctr"/>
        <c:lblOffset val="100"/>
        <c:noMultiLvlLbl val="0"/>
      </c:catAx>
      <c:valAx>
        <c:axId val="577584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9162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1E6E-E2ED-4388-B34D-9B2F78FCE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6398-DB2F-414D-B6C8-AC8D5D8E2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D824-9932-41D3-950A-2E42BA654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4134-0039-4694-94D9-C8CDE3E71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CA8C-FD68-4B7F-9146-7C3BD5BDE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9AB8-EA8A-4724-8B3D-6A4011DAB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6C98-A452-4D6C-B30C-9B436F3D1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3383-B1D6-4CE8-86BC-17ACE4732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AD5A-E26D-4498-ABBA-93AE9404C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19F9-4C67-4222-A68B-EE3F2DB69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8234-FB92-4AC2-9E9E-1EB8BD2A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6A1E-748A-4D2B-ACA9-D1EA6A6D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12EEB3-E43B-47BD-B646-6C62FB51557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