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76444"/>
        <c:axId val="92425967"/>
      </c:barChart>
      <c:catAx>
        <c:axId val="65376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25967"/>
        <c:crosses val="autoZero"/>
        <c:auto val="1"/>
        <c:lblAlgn val="ctr"/>
        <c:lblOffset val="100"/>
        <c:noMultiLvlLbl val="0"/>
      </c:catAx>
      <c:valAx>
        <c:axId val="924259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76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784-51AE-44DA-849D-A24C939F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C42-A9CF-480F-BB94-ADCCCABB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2AF-DE52-4E7F-A966-4A3FAB00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5B7-3F9D-4F76-9945-5130643F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00E-770E-4204-81FA-87D830AD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B0D-F8B3-42C5-8B98-04AAEB04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8FB-ADB8-43D3-905B-D44E2F18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187-9363-4E85-AB76-03CAC1D6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7C5-D4FB-40AD-AB1C-DAF68169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187-FC30-4E9D-92EC-07F0BF45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CDE-43D6-4762-BC46-AC9A1FE5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376-D92E-4F58-B365-9EC073F8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ACF19-1BC6-4377-8CFC-E676959549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