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54004"/>
        <c:axId val="22979316"/>
      </c:barChart>
      <c:catAx>
        <c:axId val="71354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79316"/>
        <c:crosses val="autoZero"/>
        <c:auto val="1"/>
        <c:lblAlgn val="ctr"/>
        <c:lblOffset val="100"/>
        <c:noMultiLvlLbl val="0"/>
      </c:catAx>
      <c:valAx>
        <c:axId val="22979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4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51F-0A80-44AF-93CD-E7E717A8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D40-6501-4D1D-8CAE-98D3ECC7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E04-540F-4966-8794-66EF7541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9F0-8840-44E2-B0FC-8627CDC6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47B-B3D5-447A-BB79-E8C4499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C8E-3D6A-484A-8464-F78A1441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9F0-0694-48D1-9C2D-95A19E44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847-242F-48D2-A585-B1BAE16A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CDC-0195-4481-BD53-A30FFED7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37E-10CC-4605-BAF8-FEDFB40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EE0-38E2-4A5E-B70C-ECCA42C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C13-A9D4-4B95-8CBC-6B73FB3C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16EED-C5F0-4844-B808-044E6D8121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