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72890"/>
        <c:axId val="31091695"/>
      </c:barChart>
      <c:catAx>
        <c:axId val="11372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91695"/>
        <c:crosses val="autoZero"/>
        <c:auto val="1"/>
        <c:lblAlgn val="ctr"/>
        <c:lblOffset val="100"/>
        <c:noMultiLvlLbl val="0"/>
      </c:catAx>
      <c:valAx>
        <c:axId val="31091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72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60C-3BCB-41F6-965C-3CE711A4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E7E-1BA1-4E5F-B53B-529523A3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2478-8C7E-4413-86EE-7C19DC82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699-A90D-41A9-B8DE-58591D92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1E9-8918-4E46-8632-37208590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2E9-5B73-4EBB-BBF4-0FF90576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028-0B9A-40F7-B604-DCF8329A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197-F646-4080-9944-BFF8D240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A27-A8D0-420F-919A-3202F4BF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7BE-EBE9-4FE9-BF93-61D4BA14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039F-E887-4E57-8574-DBC6BAB4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845-7DC9-458B-9942-581DEA04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97197-D18C-4B73-842E-1832FD044E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