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35933"/>
        <c:axId val="18621502"/>
      </c:barChart>
      <c:catAx>
        <c:axId val="51535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21502"/>
        <c:crosses val="autoZero"/>
        <c:auto val="1"/>
        <c:lblAlgn val="ctr"/>
        <c:lblOffset val="100"/>
        <c:noMultiLvlLbl val="0"/>
      </c:catAx>
      <c:valAx>
        <c:axId val="18621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35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0B3-0203-4BF4-9DF6-1C69A91E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164-813B-4E37-9E2B-BD4ED8F3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38B-0409-4C8C-A489-064857A9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DDB-FD84-48B9-8A5A-BFF444B9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533-5D98-47FF-9C48-FF196AAC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4A3-0686-460B-82F7-C6244DB9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EEA-1D31-46EE-81A4-E97D8DB3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A38-871D-4DE9-BAC9-8C664EBB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119-2134-4AD1-90BF-242BB15E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621-E433-4BC1-8457-0C41C22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90B-9B98-4849-A13F-0B94704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BF0-252A-4CD1-8B49-768AF6F1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FC98F-A106-4B7B-9DCB-CF765BCABA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