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1722"/>
        <c:axId val="72103779"/>
      </c:barChart>
      <c:catAx>
        <c:axId val="70531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03779"/>
        <c:crosses val="autoZero"/>
        <c:auto val="1"/>
        <c:lblAlgn val="ctr"/>
        <c:lblOffset val="100"/>
        <c:noMultiLvlLbl val="0"/>
      </c:catAx>
      <c:valAx>
        <c:axId val="72103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1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C3A-30C1-48D4-8BB6-1B98458C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04B-A35D-4A3E-9CE8-711C2EA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35E-AEDE-474C-9EE3-6E01BA1A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46C-182A-4286-BEA5-CAB3CEB0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8FF-AE8C-4304-B445-DA4FAF2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5A0-835C-4277-9043-A0D063F3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E3F-C2DF-453C-A6F8-CCCF2AD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5C9-CB60-492C-BAA6-5DA3CC3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2F7-F7F2-4D69-A4D6-58095BBB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A0B-4628-4A2A-A040-6E86149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442-FCF5-41B7-A70F-FE960AB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914-C176-4496-8DA1-8444A160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E0198-6B04-4BA5-A7A7-5610C316A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