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96403"/>
        <c:axId val="25828605"/>
      </c:barChart>
      <c:catAx>
        <c:axId val="72796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8605"/>
        <c:crosses val="autoZero"/>
        <c:auto val="1"/>
        <c:lblAlgn val="ctr"/>
        <c:lblOffset val="100"/>
        <c:noMultiLvlLbl val="0"/>
      </c:catAx>
      <c:valAx>
        <c:axId val="25828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96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E1C-6E18-42A8-A06E-99EE47D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9C8-D136-492C-971B-AE68B93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FE-BAB9-4F43-8AC8-2C91AEE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2B9-37EF-4C81-B55C-2CD70103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63B-7542-4D47-99F6-D966A0BE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A65-00D7-4D62-A98B-DC72EBA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7C2-7031-4192-BDE7-BF46FCAB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6DC-FB6B-4F56-A87B-4CD60595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772-30D7-442B-A396-0F618764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998-C494-4282-A98C-50F54AE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738-5D06-4C02-8C07-E7DE6C7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7E5-193A-4990-A8BF-1ED4EE7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029A-F9E2-4F74-A019-EEB0C212D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