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162298"/>
        <c:axId val="43527293"/>
      </c:barChart>
      <c:catAx>
        <c:axId val="861622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27293"/>
        <c:crosses val="autoZero"/>
        <c:auto val="1"/>
        <c:lblAlgn val="ctr"/>
        <c:lblOffset val="100"/>
        <c:noMultiLvlLbl val="0"/>
      </c:catAx>
      <c:valAx>
        <c:axId val="435272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622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39E4-8EA6-4183-9F9E-2ECA0619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0C6C-202F-4C83-9744-D2E3959E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5DC1-1587-4F6F-9A8F-21EED13A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6504-47EB-4B35-974A-76A5B8F9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19FE-70D8-4A90-940D-F759A3B3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1240-278E-4415-9107-4C2DDDC0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DDD7-EDC5-40FC-A1E6-9EAE840C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A4A0-79F1-4839-AAB3-5B638B56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5BA3-6A9D-4924-A52A-705AA779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FE22-42F2-40DE-BC0D-879CB6AF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0F5B-A983-41C1-8F6E-46634A50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3A20-9DCB-4DDB-BC1E-893F75E0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F6715-3982-47FF-8E4E-427EEC728E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