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660390"/>
        <c:axId val="98427125"/>
      </c:barChart>
      <c:catAx>
        <c:axId val="936603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27125"/>
        <c:crosses val="autoZero"/>
        <c:auto val="1"/>
        <c:lblAlgn val="ctr"/>
        <c:lblOffset val="100"/>
        <c:noMultiLvlLbl val="0"/>
      </c:catAx>
      <c:valAx>
        <c:axId val="984271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603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88E7-4D55-4357-BD77-225CD7EED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0C94-0F18-42B6-84B2-E943826A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5CDC-5384-42CE-8AA1-1274CFDF5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7C17-5CB3-436D-A139-7C9C20ADA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6E76-7243-42B1-9259-44DF6767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F881-E453-42D7-B769-52D0FF0D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368F-26C9-47E7-9656-FB5C4609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9703-80BD-4916-845E-EC695E18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2861-887A-4A29-A1A1-2666338B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4D01-3839-4FDE-8160-FC2E559E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055A-21AA-4913-BC45-46E3817A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BE20-AB14-450D-98B2-A88EE57D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2C315-9526-444D-8F1B-9C44DB1FC4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