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228937"/>
        <c:axId val="17636794"/>
      </c:barChart>
      <c:catAx>
        <c:axId val="992289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36794"/>
        <c:crosses val="autoZero"/>
        <c:auto val="1"/>
        <c:lblAlgn val="ctr"/>
        <c:lblOffset val="100"/>
        <c:noMultiLvlLbl val="0"/>
      </c:catAx>
      <c:valAx>
        <c:axId val="176367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2289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8BB7-B531-47DA-AB76-E77A4576D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4C0A-E5AA-4014-B505-FC843D64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B614-4BF2-4A77-8823-D52CF567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4DBF-76B2-4778-8890-5788F9AD3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FF98-3689-467C-A186-298E744E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0EE8-DD7E-4CD3-A614-F2039B04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4342-8B77-4DBB-A960-60098AFB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EB6B-8225-4B13-A16A-ACCBA46F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4D18-A41C-42EB-853B-16AFABE1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E33C-48FC-489A-AC82-29FA4F58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8F49-6522-4EE4-B7A7-F88216B8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A68B-6C0B-4C56-8E89-31541FD1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656A2-6F38-4529-A283-2551EFB0DD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