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38797"/>
        <c:axId val="59833084"/>
      </c:barChart>
      <c:catAx>
        <c:axId val="94238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33084"/>
        <c:crosses val="autoZero"/>
        <c:auto val="1"/>
        <c:lblAlgn val="ctr"/>
        <c:lblOffset val="100"/>
        <c:noMultiLvlLbl val="0"/>
      </c:catAx>
      <c:valAx>
        <c:axId val="59833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38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6CD-2B8C-4841-939C-F503649D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95C-3BCE-42F8-A9FD-81F87F97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6FD-68E1-4C87-9F45-1363E710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D78-BAC2-4842-A908-9E6C7E3A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6DB-B28D-4CAD-8187-2F731DA1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2C6-E755-49BB-9D19-3AFA639E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85C-0190-4374-8642-813C174C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613-9BA2-4971-ACC2-788A450F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484-0543-4114-BEC2-FB642CFF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E94-F099-45B9-AFA6-F5A697F3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000-C194-4EA6-B672-068F7194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311-C646-4886-9F30-244BB318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3CCB9-F488-413C-90D5-CC8C8FDD4F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