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18149"/>
        <c:axId val="87856048"/>
      </c:barChart>
      <c:catAx>
        <c:axId val="36418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56048"/>
        <c:crosses val="autoZero"/>
        <c:auto val="1"/>
        <c:lblAlgn val="ctr"/>
        <c:lblOffset val="100"/>
        <c:noMultiLvlLbl val="0"/>
      </c:catAx>
      <c:valAx>
        <c:axId val="87856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18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871-6839-4A04-AAE6-6BBC3E60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82D-CC92-4A4E-8FAB-61D5B67E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D82-E93B-4BF2-B26D-FBEEC344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212-9CDE-481D-9C17-E16C8D71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A70-5F0F-4C54-ACD3-14ED56F5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71E-7935-411B-AAD8-DAC1A36B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60C-0215-4C0B-81DC-2C7F8F76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2F9-DB7A-4697-97DC-1D01E598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7C7-D4CB-442E-8C93-6EC900C2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1FE-5AD1-42B4-97DE-713F38DF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CC0-2B44-4253-9D68-785057F3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952-4CC1-4E5F-BAF0-849AE5CD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51749-A2B1-49A3-BCF2-8D338FF3AE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