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28818"/>
        <c:axId val="27898300"/>
      </c:barChart>
      <c:catAx>
        <c:axId val="42928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8300"/>
        <c:crosses val="autoZero"/>
        <c:auto val="1"/>
        <c:lblAlgn val="ctr"/>
        <c:lblOffset val="100"/>
        <c:noMultiLvlLbl val="0"/>
      </c:catAx>
      <c:valAx>
        <c:axId val="27898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8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02C-D4A9-464E-98A6-6CFB9245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9C9-175E-4ABE-A257-E8E4F65E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25F-DEBB-487E-B5F9-35E72D34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12F-E6E2-4B9F-9485-26D03CA4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84B-B10E-4CB6-BBD0-D8C294A1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DDB-0701-4B08-819D-99D639C2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2F-9AC9-495E-95C5-95AAB4F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A35-59A6-4939-862B-279A833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FA9-D16F-40B4-A859-86D517E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45-5A69-4B4F-A0F5-73C3F89B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73C-723C-4A1E-8D2B-A41DEDE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BFF-EDD0-4E94-A03E-E1DFCA6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E189-85A7-4535-A230-D9B4344AA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