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7829510"/>
        <c:axId val="42946430"/>
      </c:barChart>
      <c:catAx>
        <c:axId val="7782951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946430"/>
        <c:crosses val="autoZero"/>
        <c:auto val="1"/>
        <c:lblAlgn val="ctr"/>
        <c:lblOffset val="100"/>
        <c:noMultiLvlLbl val="0"/>
      </c:catAx>
      <c:valAx>
        <c:axId val="4294643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782951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6497E-E799-4BC2-BAF5-D83C21219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41E19-6E3C-47B6-A57E-33C07917C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37342-4539-4DC8-9B4C-10409D632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9584C-8282-4C93-A0CE-31EA295BB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7CC48-CD49-4CD3-B719-1ED0E0279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B6667-8983-4517-9F0E-E28236F10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0C25A-6668-48CF-8755-58DEA55AF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C5B96-FDE8-4FAD-A0A1-7397CEA1D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BABCD-643D-4754-BE72-C7CC67013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456A2-E49B-4787-A3A1-A78BFC56B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45C1C-8C1A-42D9-A19E-0F1AC7430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F73EE-50EF-4762-8453-EDBDFEEF8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D990C6-29BB-4DA1-9641-C0E73ABA82C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