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512608"/>
        <c:axId val="48641649"/>
      </c:barChart>
      <c:catAx>
        <c:axId val="725126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641649"/>
        <c:crosses val="autoZero"/>
        <c:auto val="1"/>
        <c:lblAlgn val="ctr"/>
        <c:lblOffset val="100"/>
        <c:noMultiLvlLbl val="0"/>
      </c:catAx>
      <c:valAx>
        <c:axId val="486416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5126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D902-0DF4-4A5A-9CAE-0F821C9DF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E11C-6AAE-4F2B-A5DC-DF3E02766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1A0D-5E68-4185-8CAA-A52EE6D02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B20F-1676-4856-A5B6-BF23903DF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740A-18D7-44F6-99AC-D798FC14D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F02E-DE16-4490-B3BA-2427C89ED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42E7-0A40-49B7-9644-EC632A4ED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CC04-5162-4F7B-9BBA-1E6076CA8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264F-DB14-4B66-94A2-3DF09EA30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389D-1FD2-438A-B8B0-4A95B921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D0B0-5760-40B7-B6FE-A2299E2A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4BBE-0FC2-4C83-9B5F-90414CCA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8678C3-61EE-4A75-A6D5-BA4C4909A8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