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76629"/>
        <c:axId val="81445634"/>
      </c:barChart>
      <c:catAx>
        <c:axId val="38776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45634"/>
        <c:crosses val="autoZero"/>
        <c:auto val="1"/>
        <c:lblAlgn val="ctr"/>
        <c:lblOffset val="100"/>
        <c:noMultiLvlLbl val="0"/>
      </c:catAx>
      <c:valAx>
        <c:axId val="81445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6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D16-3227-44BF-8BD1-7347A55C1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FCB-E2E9-4585-A451-F305845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3A5-4320-45CA-83F6-3B9E30CE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764-1342-4C3B-9F8D-93D4AE05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0CA-7B94-4679-9756-02622F26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43AF-E540-4D79-8A14-C5BEE943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7D76-FC78-40CC-9DC9-A6E9287C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77F-86FE-4338-9812-1163339E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D15-8072-4E15-8095-948398AC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E3B-7C80-44CF-9AA7-FFCB1EBC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3E8-00E2-4A67-A103-CE92E55A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FDF-7453-4E8B-B771-58D8B319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74DCB-BAB6-427A-BCCC-70576D23AF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