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7655"/>
        <c:axId val="34029553"/>
      </c:barChart>
      <c:catAx>
        <c:axId val="18737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29553"/>
        <c:crosses val="autoZero"/>
        <c:auto val="1"/>
        <c:lblAlgn val="ctr"/>
        <c:lblOffset val="100"/>
        <c:noMultiLvlLbl val="0"/>
      </c:catAx>
      <c:valAx>
        <c:axId val="34029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7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C0B-592D-4446-976C-6E35BC42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388-D329-4E51-BF60-6D51F9F1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C0F-968C-40B3-B313-6D555191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269-0DF3-447C-BF5F-CF7FBED6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05E-E5BF-4B75-96CE-974C2DA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56D-684B-4872-A512-41855DD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E5B-F4BA-42C7-9C29-2D12902C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C15-BD00-43E4-A4B8-E9FF3D8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AD9-2060-4C8B-938E-86521007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DBC-E066-4B6C-92B3-119C1E2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828-AC1C-4899-B21A-00A2EE5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35C-CE15-480E-8744-D2B6DD7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66095-A715-4326-B827-F7C6E0DD3A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