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84763"/>
        <c:axId val="50020990"/>
      </c:barChart>
      <c:catAx>
        <c:axId val="47784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20990"/>
        <c:crosses val="autoZero"/>
        <c:auto val="1"/>
        <c:lblAlgn val="ctr"/>
        <c:lblOffset val="100"/>
        <c:noMultiLvlLbl val="0"/>
      </c:catAx>
      <c:valAx>
        <c:axId val="50020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84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8245-E873-4CD9-A5E2-02E529BB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CA9-516E-45B8-8510-B6B9243D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C3A-CAF9-40CE-A30C-4F847A2D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F1A-423F-4FFD-B1E8-40A7E123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C3C-43F5-4FCF-9159-09FE66EA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106C-DAC5-4B22-B29E-C20E7659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BA3-6A5B-4033-B96C-4169A25D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50B-B5E8-4CFD-B338-D570F55B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97B-4BAC-4949-A793-8953820F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C910-5C19-4599-A49C-FEE6C5EC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5C5-03EB-4B3F-B27D-370CC27B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347-3E16-420C-B3C6-13B4A549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FE4AB-AE17-4DD2-B988-E194EC329A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