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04577"/>
        <c:axId val="46049787"/>
      </c:barChart>
      <c:catAx>
        <c:axId val="12304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49787"/>
        <c:crosses val="autoZero"/>
        <c:auto val="1"/>
        <c:lblAlgn val="ctr"/>
        <c:lblOffset val="100"/>
        <c:noMultiLvlLbl val="0"/>
      </c:catAx>
      <c:valAx>
        <c:axId val="46049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04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367-7A34-41EF-9167-05AB2785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CA3-B1E5-4C34-B0AA-C3C715C4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C6F-25DF-40F0-8A19-104720EA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66E-3FCD-4E0E-9727-43A0CF21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B62-F288-4C91-B996-4FFB52C9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AF6-4184-487C-BDDA-0A2453A1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3BA-E756-4535-8135-9284D330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C51-F31F-4B04-B172-4759761C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287-3DED-4E39-81D4-E0DDE96E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1AB-FFA5-46B8-87CB-4CE35AF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2E3-87F7-4394-879A-9AC5F1F6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21B-190C-49C5-BBCB-D4258A3C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B640B-67A2-4FD3-87F9-17886C173D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