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2942"/>
        <c:axId val="55303655"/>
      </c:barChart>
      <c:catAx>
        <c:axId val="4552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03655"/>
        <c:crosses val="autoZero"/>
        <c:auto val="1"/>
        <c:lblAlgn val="ctr"/>
        <c:lblOffset val="100"/>
        <c:noMultiLvlLbl val="0"/>
      </c:catAx>
      <c:valAx>
        <c:axId val="55303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2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6C8-180D-453B-BDF4-CBC80B81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6A7C-7D0A-4D71-A68B-EAFD6704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B8D-16C7-4F8B-9D6B-4A2C4ECF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E324-E8FE-4F1D-861E-FE17B1C5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DBC-0516-4ABD-BBBA-6F5337C3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6E1-9A24-4901-8276-FB0C70B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F63-8FD7-4DE3-9C39-83561756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F5C7-4B04-43A4-B649-0CC6C1A2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893-D7C6-4BD0-8484-5E72452C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C64A-A848-46AA-ACCF-4A9D351B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DB6-E0CD-42A8-9785-DE8BDC2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61D-BAAF-48DC-806D-CD9F467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DE45C-5F73-4ECB-9BB1-33C2BCB72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