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15099"/>
        <c:axId val="49154919"/>
      </c:barChart>
      <c:catAx>
        <c:axId val="37915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54919"/>
        <c:crosses val="autoZero"/>
        <c:auto val="1"/>
        <c:lblAlgn val="ctr"/>
        <c:lblOffset val="100"/>
        <c:noMultiLvlLbl val="0"/>
      </c:catAx>
      <c:valAx>
        <c:axId val="49154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15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9FE-F1C6-4E6C-B89F-76353B9E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FB3-5372-49F0-8119-1B1CD181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68E-7E25-461B-99D4-7214B6CD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913-D267-4786-88F8-5F627100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4C4-F893-4C99-864D-971AAA6A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FCD-73CB-420D-83EF-9D138711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639-8C2A-47B8-9504-0501E2A5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B94-2060-426C-9898-FF8B2171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EFB-80CF-4E3A-8788-717C46F0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398-7640-4C81-A7B4-351FECF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A71-2971-4275-A88D-F42B3E2E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377-EF10-413C-8E7A-0B7E17E2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4D04E-0AD0-4A67-B1C5-C71814C961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