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8841134"/>
        <c:axId val="12872244"/>
      </c:barChart>
      <c:catAx>
        <c:axId val="5884113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2872244"/>
        <c:crosses val="autoZero"/>
        <c:auto val="1"/>
        <c:lblAlgn val="ctr"/>
        <c:lblOffset val="100"/>
        <c:noMultiLvlLbl val="0"/>
      </c:catAx>
      <c:valAx>
        <c:axId val="1287224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884113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4FD4A-B6AD-4E24-A6F9-0A470C819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E3732-43C4-4998-B717-68FF2F66D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EF83D-DF6A-4B6C-A5EA-2DE903B86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1F8AC-E2D0-4EC1-BC6C-42DB953A4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DE213-080E-4230-8D3F-55B5F728B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DA5B7-2577-49C8-934A-67D0F5913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B51C0-FE94-41D0-82A3-3B34CB03C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FE7CA-BF83-49F4-89F3-D8F6D333C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1B668-58FE-490E-B662-BC8B9B6A3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9B16F-23EB-4AC4-93CB-634763D23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AF2E6-55EB-4DDC-B143-DF3CC55B3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92B40-CE0C-40EF-B756-56FB7A495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B06815-A192-4493-AEB6-BAE4096590D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