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217616"/>
        <c:axId val="19782359"/>
      </c:barChart>
      <c:catAx>
        <c:axId val="112176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82359"/>
        <c:crosses val="autoZero"/>
        <c:auto val="1"/>
        <c:lblAlgn val="ctr"/>
        <c:lblOffset val="100"/>
        <c:noMultiLvlLbl val="0"/>
      </c:catAx>
      <c:valAx>
        <c:axId val="197823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176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AC63-168D-4CE4-B8F8-112FAC79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6911-B8B0-4135-A035-70DEDDED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7BC7-CBC6-4F6A-B52D-A797FFDA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3A94-13EB-40AF-8453-72980701E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2752-3D76-45C7-96FC-492571A7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130E-FC50-4FD3-A471-953F7D68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6B74-A122-4AAC-A339-9440B8A1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9884-1207-48EA-B5F4-34665868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EA42-5D18-4B17-B638-22B0BF81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FBFE-2836-4633-B3D8-423EB2CF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2C8B-4881-4757-AC86-D20B6412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782A-1C7A-4729-89DA-F0474819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35278-C8DC-443D-851D-F23B8334CC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