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79522"/>
        <c:axId val="68561165"/>
      </c:barChart>
      <c:catAx>
        <c:axId val="31879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61165"/>
        <c:crosses val="autoZero"/>
        <c:auto val="1"/>
        <c:lblAlgn val="ctr"/>
        <c:lblOffset val="100"/>
        <c:noMultiLvlLbl val="0"/>
      </c:catAx>
      <c:valAx>
        <c:axId val="68561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79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5FE-A2A5-47F6-8201-D2A13B21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893-AE2A-4E4A-AAF0-5BE1FE79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28F-729D-485F-BAB9-2C6245A0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0D1-FC6E-45B9-A1CA-8E15FEF4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C8E-A8D9-45BC-A09B-39595FF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7AD-1023-4652-9D5D-B27F936A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6E3-5DCD-471D-A292-346CE37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7F1-31D5-44DD-9F75-012A870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A1F-12E2-4651-BB11-0C7FEAA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F70-F44A-43A9-B64B-C90CC4C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C6D-0F08-4942-91B9-FAAF2E2C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FA6-364F-4416-B6D7-A32635D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C6C57-DADD-4932-ABE3-BD5E959D8F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