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59596"/>
        <c:axId val="67673546"/>
      </c:barChart>
      <c:catAx>
        <c:axId val="83459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73546"/>
        <c:crosses val="autoZero"/>
        <c:auto val="1"/>
        <c:lblAlgn val="ctr"/>
        <c:lblOffset val="100"/>
        <c:noMultiLvlLbl val="0"/>
      </c:catAx>
      <c:valAx>
        <c:axId val="67673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59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463-B56A-4716-8D44-9C2922FF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558-3152-4B4B-A876-9B53F827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E92-081C-4779-AC00-FB0E3ED6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B71F-FCB2-4EE5-BFB5-E4D46FD9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0D0-68E2-4D46-9835-D4E529B2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D393-464F-43AD-B6D9-9846E908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D24-737E-496B-9AA5-4C2B3690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02E-B340-4046-B318-21D18BB4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50C-A637-4A26-B882-04446BAD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FCD-DACE-47CC-9179-8D22BE51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008-0DAD-4994-8FF6-371DA76A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42D-C39A-4540-958E-350F3AAF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02090-1EEA-42E9-B1A9-FD75699AE3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