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22265"/>
        <c:axId val="31455301"/>
      </c:barChart>
      <c:catAx>
        <c:axId val="25322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55301"/>
        <c:crosses val="autoZero"/>
        <c:auto val="1"/>
        <c:lblAlgn val="ctr"/>
        <c:lblOffset val="100"/>
        <c:noMultiLvlLbl val="0"/>
      </c:catAx>
      <c:valAx>
        <c:axId val="31455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2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5FB-7896-4B53-AF16-E32826D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A6E-018D-4B28-BF46-8819D141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3C6-5F39-48B7-9E69-569CB1E3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8AF-2F5E-403D-A5F9-D1769041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35D-63DF-432A-9D29-0BA0D8C1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EA3-5BB1-43E2-BBC7-B69E25A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579-DAE5-4C66-8649-8C356BE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750-0702-451F-95FA-67EA7FB3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C66-0247-4039-8151-0B1E4E1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AD6-57D0-460E-9E81-4325648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1BF-7718-4C72-B227-2483F93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431-A4B8-4444-BB79-C2E9D93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BB450-3CD7-4502-8F31-4D368B35A9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