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23086"/>
        <c:axId val="76352476"/>
      </c:barChart>
      <c:catAx>
        <c:axId val="84323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52476"/>
        <c:crosses val="autoZero"/>
        <c:auto val="1"/>
        <c:lblAlgn val="ctr"/>
        <c:lblOffset val="100"/>
        <c:noMultiLvlLbl val="0"/>
      </c:catAx>
      <c:valAx>
        <c:axId val="76352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3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E01-6595-4D48-AA0A-55FAA38E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AD6-3548-4F7A-8CF9-617C509B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EF6-F106-4231-8375-4B183FAF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7CB-6EAB-4EA7-A15D-84669264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E4E-F7A0-4B24-B2AB-250393BD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53B-6A71-49FA-897A-A7730A0F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87C-7AC3-4041-8F3E-2B140BC1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138-FB08-4D54-A566-B40CEC4F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B2D-BD45-4889-874F-D6579DA6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63C-DFFC-4EA9-BA70-E1E2FB60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7E7-D25E-4092-8489-DEFBD99B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790-E21D-49F8-B120-A1D04867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C9DF3-28A9-4244-806D-D509ADA64A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