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07511"/>
        <c:axId val="96831564"/>
      </c:barChart>
      <c:catAx>
        <c:axId val="11807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31564"/>
        <c:crosses val="autoZero"/>
        <c:auto val="1"/>
        <c:lblAlgn val="ctr"/>
        <c:lblOffset val="100"/>
        <c:noMultiLvlLbl val="0"/>
      </c:catAx>
      <c:valAx>
        <c:axId val="96831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07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15F-51F2-45DA-931D-A7C05C5E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052-E4C4-4E60-A8B8-FD84FFB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7F3-2E29-4D30-8447-ECD704A8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C69-D6C8-4150-AC17-5FE10970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CD5-5C5E-415D-BB45-D33BA4D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2B0-03BB-4D66-B1F7-A4545536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BA7-DEBC-42E9-BB53-1B80C09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59D-97BC-4855-810E-D810ECF3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EE7-19EC-4F36-9B88-162E516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539-A5E4-46A6-A25A-82647F4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945-F5EA-43B7-A661-0AF0E1E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D29-6C45-4832-BBED-15ECED3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D74F8-EA7D-41F9-8BF9-B03086B01B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