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48535"/>
        <c:axId val="96318180"/>
      </c:barChart>
      <c:catAx>
        <c:axId val="98648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18180"/>
        <c:crosses val="autoZero"/>
        <c:auto val="1"/>
        <c:lblAlgn val="ctr"/>
        <c:lblOffset val="100"/>
        <c:noMultiLvlLbl val="0"/>
      </c:catAx>
      <c:valAx>
        <c:axId val="96318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48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036-4C93-413D-A145-AE4539FE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EB4-B8C2-45DB-9CDC-360EE1DA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575-60F5-477E-BB1D-6E31239B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940-6CAC-48E6-99C0-7F308F7E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14F-DDD3-4D51-B9C8-2CD35238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A19-2F27-4333-9D19-204E5D5D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5684-C0B5-4B83-9032-00562308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959-C7AD-40DD-9950-77B91C01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86D-EDC6-4E56-AE25-AD3A8024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1BD-F05C-4233-BD18-FF57CD52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576-AFF5-4C8F-82BB-30D770EA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5E2-FC1C-4572-BD11-DBE2326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23183-B5B1-4EEC-A482-3BDA2DA632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