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6315083"/>
        <c:axId val="52504466"/>
      </c:barChart>
      <c:catAx>
        <c:axId val="66315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504466"/>
        <c:crosses val="autoZero"/>
        <c:auto val="1"/>
        <c:lblAlgn val="ctr"/>
        <c:lblOffset val="100"/>
        <c:noMultiLvlLbl val="0"/>
      </c:catAx>
      <c:valAx>
        <c:axId val="525044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315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9019-5696-4B40-909C-8AF71810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F70BF-0DEF-472F-863E-3C95D5F9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27DE-7059-4066-826E-69365D87C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FF83-BACE-43ED-83D7-04EFB2640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F58-9A85-484E-84E7-314F2A086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BD2A-804D-4336-B6D7-E9E17B285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CBF1-65AC-4F09-BE47-C7BD7AF16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B3A6-E0C8-4DC9-9560-0FA44E554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1E71-0633-4AB0-88B9-51FB85C78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37912-2120-4694-B311-D9CABEE9A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FCC4-3F05-402D-BEA4-3266597F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B458-376B-48AC-BFC1-B1C019059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E70FC-C913-4DDC-A605-66FFC90C3E0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