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13390"/>
        <c:axId val="3188533"/>
      </c:barChart>
      <c:catAx>
        <c:axId val="73913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8533"/>
        <c:crosses val="autoZero"/>
        <c:auto val="1"/>
        <c:lblAlgn val="ctr"/>
        <c:lblOffset val="100"/>
        <c:noMultiLvlLbl val="0"/>
      </c:catAx>
      <c:valAx>
        <c:axId val="3188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13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91D-018B-4347-AB1F-C9A2FBD3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876-C16E-4BEB-8421-DA070A4B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9E1-5DE3-4552-9FF9-C31182B1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C6D-34C6-49CA-A56B-B307C0F0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A507-8B2B-48FF-9CB1-439D8580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AE3-9EB6-4EC7-91C9-4255A161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30C-ED4E-46C3-847D-EE33F8CD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3F7-1400-45B5-A5CA-F4C39E02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FF55-385B-48E6-8BBB-55E8C242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093-59F8-4DCB-B37E-7F127AF2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16B-57C3-40AF-B4FF-965143F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DA2-FB6B-4145-B69C-41B1C68F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B192C-DDC7-41A9-9570-6351E466A9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