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787270"/>
        <c:axId val="23294678"/>
      </c:barChart>
      <c:catAx>
        <c:axId val="72787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94678"/>
        <c:crosses val="autoZero"/>
        <c:auto val="1"/>
        <c:lblAlgn val="ctr"/>
        <c:lblOffset val="100"/>
        <c:noMultiLvlLbl val="0"/>
      </c:catAx>
      <c:valAx>
        <c:axId val="23294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87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04B3-1F07-4AC7-BED1-DA1724ED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A497-A6C9-4BD6-BF1A-7F67AD48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49C-932A-44C8-895C-0A2ECFC1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CD3-F4BB-4E9D-B692-6D2063E0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CA69-57A6-4299-8454-89D4FF31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3D74-3706-422E-B317-E4065DA6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A87F-20D4-4ED3-9DB5-F82BD995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326-F6F8-46DA-AD35-640C7CB5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22D-727D-4AEA-AD90-60F2C61C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41C-FDE5-4A0E-BD07-1AC5B77E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701A-D847-4664-9AE7-5E9C00F8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FF5-2F13-493B-95AA-57E1260B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CC77F-D7D0-48F9-808F-5560A199FE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