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661479"/>
        <c:axId val="23472155"/>
      </c:barChart>
      <c:catAx>
        <c:axId val="846614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72155"/>
        <c:crosses val="autoZero"/>
        <c:auto val="1"/>
        <c:lblAlgn val="ctr"/>
        <c:lblOffset val="100"/>
        <c:noMultiLvlLbl val="0"/>
      </c:catAx>
      <c:valAx>
        <c:axId val="234721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614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CF2C-FDE5-4E72-827C-64B28785E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E1A9-364A-474E-A878-12181C1A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C353-950C-47C8-BFD7-D04A4B14E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DBD6-6AD3-41DE-BDD6-7A3B8872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ED02-CB26-439E-8A3A-8A54F859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DC3F-2191-4348-956E-5DE1759C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CE3A-D0B4-490E-895E-4BC80565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C9F9-3DB8-4E7D-9EE0-677DC362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AD3E-E003-4A33-B112-E43D8075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A191-1E26-4360-B973-056FB626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F991-AE69-404C-954B-697C4450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D415-CA2D-4C66-AC3E-7D206EB9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54CDA-009F-4586-9FC3-B035FB7E4A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