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28211"/>
        <c:axId val="89219141"/>
      </c:barChart>
      <c:catAx>
        <c:axId val="87428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9141"/>
        <c:crosses val="autoZero"/>
        <c:auto val="1"/>
        <c:lblAlgn val="ctr"/>
        <c:lblOffset val="100"/>
        <c:noMultiLvlLbl val="0"/>
      </c:catAx>
      <c:valAx>
        <c:axId val="89219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28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267-FFA6-4B40-84DB-62228D30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B38-231D-4519-B4D7-C49D15B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E1D-F553-4366-9635-4F678041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B2C-CCCF-4470-9873-1C568580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50B-17E0-4E98-A972-230B483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254-AB8F-47DD-A2B5-D01C7004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096-7FA3-44E0-8077-09EE9CC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A64-A6B2-4E3A-9077-86867F9D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264-74B1-4FB7-B60F-ECFDF690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B00-6A93-4A0E-9254-0B8059D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2F4-956D-4877-9CD0-5DCD6B1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FD6-E7DA-4887-ADBB-7DBF152F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1E278-A9C0-4E99-B71D-D32C6156A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