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40571"/>
        <c:axId val="52221538"/>
      </c:barChart>
      <c:catAx>
        <c:axId val="704405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21538"/>
        <c:crosses val="autoZero"/>
        <c:auto val="1"/>
        <c:lblAlgn val="ctr"/>
        <c:lblOffset val="100"/>
        <c:noMultiLvlLbl val="0"/>
      </c:catAx>
      <c:valAx>
        <c:axId val="52221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405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64C-2AF8-4750-8CB0-DD0AD406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0F03-0969-4E18-84BC-23E1AA15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7AB-66D9-45D1-A5EF-DCF96565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002-4B00-4A8A-9130-2D97DFB8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AED-9AD1-4922-A32C-9B1651BB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376A-8FEB-4226-AA67-CDE67253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F229-CE07-4CE7-9F77-6FA5BBCC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F29-D5D6-4CCD-BCFA-AC2258E8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2BE-9EA9-46A8-8EA6-39B666B5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E377-245B-449A-B4E8-40E95A72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B38-68A1-4EE9-A6D7-0B23B408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6C8-A1A5-4F5B-9E2C-A052B464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4B81C-EA09-4A7D-8ACB-4FD72101B5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