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53397"/>
        <c:axId val="83681823"/>
      </c:barChart>
      <c:catAx>
        <c:axId val="36553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81823"/>
        <c:crosses val="autoZero"/>
        <c:auto val="1"/>
        <c:lblAlgn val="ctr"/>
        <c:lblOffset val="100"/>
        <c:noMultiLvlLbl val="0"/>
      </c:catAx>
      <c:valAx>
        <c:axId val="83681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53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3C0-4900-4065-9151-6DA318F1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E4D-3EF2-4FF6-9293-41B248E4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662-574D-4C9E-A6D7-1BBF8F14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A5D-BE1E-404C-98DE-E54DC412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DD9-E4D4-4912-806E-1ABE3C71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2BE-E104-4E3A-9912-E20E8AD2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992-364E-413B-88F9-7389AA89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F64-42EF-4FC6-A30B-488CA77D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C785-8C63-4509-9002-2383C3A2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549-9067-4186-8B0C-ED8E7E33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6D4-59CE-4A94-9A24-34CA14EB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44E-3833-404A-B5E2-0B593EEF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A358E-0D30-401C-BD64-A54313A3DB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