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43286"/>
        <c:axId val="29768140"/>
      </c:barChart>
      <c:catAx>
        <c:axId val="94443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68140"/>
        <c:crosses val="autoZero"/>
        <c:auto val="1"/>
        <c:lblAlgn val="ctr"/>
        <c:lblOffset val="100"/>
        <c:noMultiLvlLbl val="0"/>
      </c:catAx>
      <c:valAx>
        <c:axId val="29768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43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F36-2938-4880-A527-B200C2F2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7AE-809B-4900-8800-2F910ED0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5C8-AF33-45F0-A8C2-1662288C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DA0-B852-4FE3-8477-44DA20D7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300-1BB4-4E6F-8110-47AC977C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8FE-63E5-47C6-BF63-A3F8E6FD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395-7C51-42AE-82A3-B38649AF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D52-7CD1-4CF0-BA48-94DF9B2E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79B-2C47-425F-B86C-9B7C8D71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651-4533-48C0-853E-2966FD1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F56-AE5C-4D86-80B4-C19D9A8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E8A-043F-497F-AC8C-26A8E59A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97396-99E8-4A8E-81C4-BAF4EE093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