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37670"/>
        <c:axId val="9604706"/>
      </c:barChart>
      <c:catAx>
        <c:axId val="55537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4706"/>
        <c:crosses val="autoZero"/>
        <c:auto val="1"/>
        <c:lblAlgn val="ctr"/>
        <c:lblOffset val="100"/>
        <c:noMultiLvlLbl val="0"/>
      </c:catAx>
      <c:valAx>
        <c:axId val="9604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37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D84-E7CE-4AA6-B462-BE85347C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001-19F5-440E-A676-C6EED67D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A0A-ECA2-4A94-928B-382ABBBD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B12-6C48-4A41-AF46-00F5F7A0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2E3-348F-444F-9C95-A16C14E0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356-454C-4E61-B548-0A7088ED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D36-4827-4EF1-869D-69A01063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CD3-61AC-4509-8A15-2C35B826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5BE-E0D0-4ECC-AC1C-121ABB78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5BB-3016-4965-AD3C-8405F87B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86A-9D97-48B0-9C73-A803D234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17B-5586-4640-B7E8-5F8F475B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E81EA-5EFF-4210-A6DC-C84BD42CB4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