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264605"/>
        <c:axId val="7265031"/>
      </c:barChart>
      <c:catAx>
        <c:axId val="872646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65031"/>
        <c:crosses val="autoZero"/>
        <c:auto val="1"/>
        <c:lblAlgn val="ctr"/>
        <c:lblOffset val="100"/>
        <c:noMultiLvlLbl val="0"/>
      </c:catAx>
      <c:valAx>
        <c:axId val="72650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2646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C137-EA75-4224-8A31-AE4CCCA2E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97C2-DB3B-4E59-BDC2-6462FDF3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EC7D-F25B-4A8C-BA2F-8F3276260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442A-20B4-4BC9-8864-5982D9A8A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24F6-4027-4110-B474-CDE63BBA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44F7-B0E8-442B-B60F-3C2F8EB5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9ABE-A229-4F28-934E-D5C8B4F1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1439-3D2C-421D-B196-A4295D95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B5F5-CAEC-442E-A811-5FB68CFE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B1CB-1A48-4CAF-B4D6-D20F5722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A4EC-7E58-4F0A-8A68-02651209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3554-19B6-4B78-9957-6275AAB7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55B378-709C-4551-A13E-4831B817AB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