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65342"/>
        <c:axId val="48384783"/>
      </c:barChart>
      <c:catAx>
        <c:axId val="71565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84783"/>
        <c:crosses val="autoZero"/>
        <c:auto val="1"/>
        <c:lblAlgn val="ctr"/>
        <c:lblOffset val="100"/>
        <c:noMultiLvlLbl val="0"/>
      </c:catAx>
      <c:valAx>
        <c:axId val="48384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65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67E-8D3A-4684-9EBC-D6F24669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518-5893-46D1-981F-20C0B4EE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21C-56B7-4713-BBF7-105A1CE3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4F8-E0CB-414A-9BC9-6007907C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CC8-DE09-4F41-93A9-41E29769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C4D-29D6-462B-82CD-114E6390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143-14CB-4020-96E2-920791B3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4D4-9664-4BAC-B19F-D56B27A5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429-07F8-4827-A5C6-A70CC66C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3F0-1BE9-4E1E-95CF-0B6CAB79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FAE-B008-45E1-95C9-65112EB6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AC8-6EE9-4B3A-B954-D905B1CB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C7A77-39D2-404A-92FA-30A1F65468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