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11761"/>
        <c:axId val="78106894"/>
      </c:barChart>
      <c:catAx>
        <c:axId val="80511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06894"/>
        <c:crosses val="autoZero"/>
        <c:auto val="1"/>
        <c:lblAlgn val="ctr"/>
        <c:lblOffset val="100"/>
        <c:noMultiLvlLbl val="0"/>
      </c:catAx>
      <c:valAx>
        <c:axId val="78106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11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916-0F65-4A19-9C5F-BB72003D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5CF-E600-4A23-8775-4D09F815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980-0CF0-40A1-967F-44FB4AF6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233-2A23-4B84-98DD-31166F50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33B-F927-42E7-B1A0-A1EE9F71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C992-AC24-49BA-9724-501DFFD4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DD2-4C84-475C-8CD6-F3A60470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3CF-32F1-4802-9E5B-EF04D582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28E-4DB8-4907-B34C-446A1AEB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E5D-9862-430B-BBE9-211218D3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D1C-EC5F-4D2C-9CB7-4B689C72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5D6-8F83-4608-B4D6-7DE8B0BB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D5AD9-40F2-42AE-96B3-C7B4AEB3E8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