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20001"/>
        <c:axId val="66758196"/>
      </c:barChart>
      <c:catAx>
        <c:axId val="55320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58196"/>
        <c:crosses val="autoZero"/>
        <c:auto val="1"/>
        <c:lblAlgn val="ctr"/>
        <c:lblOffset val="100"/>
        <c:noMultiLvlLbl val="0"/>
      </c:catAx>
      <c:valAx>
        <c:axId val="667581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20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B354-9E09-4F84-86F1-B31425C6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91D7-13F5-4451-81EB-2F5EF1F8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EE8-CBCC-47EA-B66F-71EFE7CF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B716-DFC5-4178-A1A7-C67241D3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89C8-607E-42CE-9599-D37F57C1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9C92-1548-4A64-8D68-D5183087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EA66-E072-4B4B-98AE-1D4737ED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153-A305-4EB7-A945-E3494D07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96FC-FF04-4BE5-959A-D3E308F5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25E-7C8F-40B0-9462-5A5F304C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715-AB4F-4D44-88B2-185BAFE1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371C-8828-4440-92A1-085050F9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158C8-AA45-4CE2-9AB1-69785B9CE0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