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5441"/>
        <c:axId val="23720630"/>
      </c:barChart>
      <c:catAx>
        <c:axId val="4715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20630"/>
        <c:crosses val="autoZero"/>
        <c:auto val="1"/>
        <c:lblAlgn val="ctr"/>
        <c:lblOffset val="100"/>
        <c:noMultiLvlLbl val="0"/>
      </c:catAx>
      <c:valAx>
        <c:axId val="23720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5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CBB-D497-4CAD-B4A4-B708D1BD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57A-101A-4FE1-894F-F119725D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FD2-18B2-410F-98DB-AA3ED8CF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0C9-8494-4023-B73F-5AE924F9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FE1-678F-45FB-84C0-52565E1A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214-3A25-47C2-BC1B-A5BA0BC8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E09-F4FE-4B67-8319-C68BD089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810-AB41-4A15-A42F-48509CD1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3DF-0D0D-4B54-8C70-B0683CCF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8A6-6092-462D-B908-AD07A8B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C08-BBAC-4CAE-9410-C3360477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E08-36CB-4A0A-A1F7-8E3A5833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40E9C-F1A7-4940-8D7E-93D87AF104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