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64923"/>
        <c:axId val="12118957"/>
      </c:barChart>
      <c:catAx>
        <c:axId val="95464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8957"/>
        <c:crosses val="autoZero"/>
        <c:auto val="1"/>
        <c:lblAlgn val="ctr"/>
        <c:lblOffset val="100"/>
        <c:noMultiLvlLbl val="0"/>
      </c:catAx>
      <c:valAx>
        <c:axId val="12118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4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80B-F170-4ABA-BE30-0B12B3C4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060-7A3C-4AFB-86BC-C184D3A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CC1-5FAB-406D-AFB5-EFC23087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7D9-24CC-42CA-A558-18EA6B5A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A06-1CEF-4EA8-A1A1-8F14A6FC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99E-4691-49F6-AF78-1F37D4B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7CD-7EB7-4EDA-997B-09F1B088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3DD-D6DB-4550-8159-9682D30C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68-74BD-4EBC-9F95-F700706B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37E-B7B4-4F75-86E9-ACBA519C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BA6-FBAD-4406-A483-91F2DDF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1C5-F801-4A83-8CD0-0B8AB38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62EAB-D643-48D5-9E61-346F2E7FE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