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27881"/>
        <c:axId val="66116070"/>
      </c:barChart>
      <c:catAx>
        <c:axId val="47127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6070"/>
        <c:crosses val="autoZero"/>
        <c:auto val="1"/>
        <c:lblAlgn val="ctr"/>
        <c:lblOffset val="100"/>
        <c:noMultiLvlLbl val="0"/>
      </c:catAx>
      <c:valAx>
        <c:axId val="66116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27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877-9A98-4E03-8404-5592C389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46D-1DA4-4DDF-A39A-8E86D245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F0C-5C86-469A-BED0-B4EFFF1B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D09-4605-4FDB-B3FF-00C45EE6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84E-CF86-43D7-8133-C54D4FDF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9CE-2F76-4357-AB7B-529130E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CC2-D93C-4F61-A33F-A764EF28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B44-33B1-4596-804E-B77067F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268-1963-40F0-B430-483782C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607-2F78-465B-BA96-68D388E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AC5-B626-4780-AC08-32A1404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A75-7103-4FAC-B64B-70109192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964B-711C-499C-B4A9-BB033B7FB7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