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18991"/>
        <c:axId val="74183145"/>
      </c:barChart>
      <c:catAx>
        <c:axId val="87718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83145"/>
        <c:crosses val="autoZero"/>
        <c:auto val="1"/>
        <c:lblAlgn val="ctr"/>
        <c:lblOffset val="100"/>
        <c:noMultiLvlLbl val="0"/>
      </c:catAx>
      <c:valAx>
        <c:axId val="74183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18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AAF-D28A-402B-9CFF-60A92538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97D-1F17-4314-AF78-86368AC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86C-79E4-46F3-AFCB-C3A3B995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EC0-2CDC-42B5-AAD1-E3D0FE34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0F3-F1A3-46CE-A30A-FA17FAAF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B3F-B9AC-422D-BB39-53E0FA30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DCF-FBC8-417E-BDA0-A5EB54AC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4A2-996B-4293-AB46-027509CD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C98-00D7-49C4-A327-47072F01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92F-D325-43AA-8A12-F57952A8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565-D1CC-4F7D-8B95-FD89588B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71B-8127-47B2-BC0C-FE51470E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BD943-DCF6-4C56-B9AC-5E425537E8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