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714909"/>
        <c:axId val="65762307"/>
      </c:barChart>
      <c:catAx>
        <c:axId val="787149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62307"/>
        <c:crosses val="autoZero"/>
        <c:auto val="1"/>
        <c:lblAlgn val="ctr"/>
        <c:lblOffset val="100"/>
        <c:noMultiLvlLbl val="0"/>
      </c:catAx>
      <c:valAx>
        <c:axId val="65762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149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8F35-C871-498D-8951-71A1712B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541-3446-4ED5-9DA0-D9BA426C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5D7-5825-40D8-92B4-3494A1AC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6F6C-26AE-465D-873D-BB3EB5AD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50DD-B517-4951-ADD0-0A0D3604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FDF6-C063-4A03-8824-B5A9712E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9FE-C0E3-4107-82FE-C0A8ED67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7744-BA5F-4469-85E2-B11671BA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1E86-2315-4B43-A706-5C5C2160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B69-AA8E-47AF-9118-23B95BCA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BC6-9CAC-4C70-A0E2-F090F224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B44-7BEF-4B9E-BF51-73CA8BFB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3DF84-5271-43EC-8B24-99A2C2EAC7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